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376C-F837-4B88-8DEF-7A1F5B71C1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374C-DB6C-4410-A03D-D74CBA8C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6A0E-09E2-4D92-BA30-FC198CBC28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CCC-F4EC-493D-8696-F2C2BFE9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EAA-1B49-483D-AC1E-D89585FE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44D-718D-4949-A2B6-1708545C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43A-275E-4B29-B09A-43FE629D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6C41-F8D0-48F9-A991-2322E698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40CA-8AA7-4DFE-BE67-C06141FF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5961-7238-485A-9201-146CA4D9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D8C9-903C-492A-88B9-A90CA1F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46AD-DABC-498A-B548-3DCC455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417-5F84-4EEB-8F6B-C07E1516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B6D6-04CD-4ECB-807A-E328605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253-607D-498D-96B9-67C8CCFA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AE4-0B0E-4901-81F2-8323AFF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389B-F84D-4159-B674-B07466A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7AA-63D5-4DBD-BFA8-ACBA11C2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BB4-498A-4668-96F5-3936FB9F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2A81-4489-424D-BE8D-35277390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C07-FBFE-4289-AE6E-9BC7D9DC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781-5898-46A7-9BDD-6538ED6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48A-7410-4A10-94A6-62CCFC6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D0D-8755-493C-8B32-4651F3D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66A-70A0-45D1-B247-CF2E89B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11E-A95E-4B1F-A9E4-98E746C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A69-1AE3-4E03-83AA-60A0EC5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A0B5-79D0-40C8-A310-B5A61A1B635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52BD-4A83-4239-9E72-07640F104E87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461-238D-43D1-BD06-4AC53C04774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youtube.com/watch?v=GmiZ0huvZzs" TargetMode="External"/><Relationship Id="rId5" Type="http://schemas.openxmlformats.org/officeDocument/2006/relationships/hyperlink" Target="http://www.youtube.com/watch?v=GmiZ0huvZzs" TargetMode="External"/><Relationship Id="rId6" Type="http://schemas.openxmlformats.org/officeDocument/2006/relationships/hyperlink" Target="http://www.youtube.com/watch?v=GmiZ0huvZzs" TargetMode="External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youtube.com/watch?v=80Q3GgeelVM&amp;feature=related" TargetMode="External"/><Relationship Id="rId5" Type="http://schemas.openxmlformats.org/officeDocument/2006/relationships/hyperlink" Target="http://www.youtube.com/watch?v=80Q3GgeelVM&amp;feature=related" TargetMode="External"/><Relationship Id="rId6" Type="http://schemas.openxmlformats.org/officeDocument/2006/relationships/hyperlink" Target="http://www.youtube.com/watch?v=80Q3GgeelVM&amp;feature=related" TargetMode="Externa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Phase-diag2.svg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grc.nasa.gov/WWW/K-12/airplane/gasprop.html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Kinetic Molecular Theory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Basic Assumption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article Size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s particles have no volume (pin point particles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space between particles is extremely large compared to the volume of the particles. Due to this distance, there is no significant attractive or repulsive force acting on the particl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400" y="107640"/>
            <a:ext cx="76024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easuring Gas Pressur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vangelista Torricelli (1608-1647) was the first to demonstrate that air exerte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He designed experiments in order to test his theories about liquid and densit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He invented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barometer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: an instrument used to measure atmospheric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5" descr="TorricelliExperiment.gif"/>
          <p:cNvPicPr/>
          <p:nvPr/>
        </p:nvPicPr>
        <p:blipFill>
          <a:blip r:embed="rId2"/>
          <a:srcRect l="-93852" t="0" r="-93852" b="0"/>
          <a:stretch/>
        </p:blipFill>
        <p:spPr>
          <a:xfrm>
            <a:off x="-2514600" y="228600"/>
            <a:ext cx="14030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Units of Pressur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752120"/>
            <a:ext cx="75819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-3225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SI unit of pressure is called the pascal (Pa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pressures measured by barometers and monometers can be reported in: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Millimeters of mercury (mm Hg)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lso the Torr, which is named after Torricelli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ir Pressure is often reported in a unit called an atmosphere (atm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1 atm= 760 mm Hg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760 torr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101.3 kPa (kilopascals)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14.7 psi (pounds per square inch)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Dalton’s Law of Partial Pressure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79040" y="1882800"/>
            <a:ext cx="78310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0960" indent="-39096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alton’s Law explains that the totally pressure is equal to the sum of all the pressures of the par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81920" indent="-390960">
              <a:lnSpc>
                <a:spcPct val="80000"/>
              </a:lnSpc>
              <a:spcBef>
                <a:spcPts val="60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is is only true for ideal gases, but the error is small for real gas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essure</a:t>
            </a:r>
            <a:r>
              <a:rPr b="1" lang="en-US" sz="1400" spc="-1" strike="noStrike">
                <a:solidFill>
                  <a:srgbClr val="ffffff"/>
                </a:solidFill>
                <a:latin typeface="Candara"/>
              </a:rPr>
              <a:t>Total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= Pressure</a:t>
            </a:r>
            <a:r>
              <a:rPr b="1" lang="en-US" sz="17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+ Pressure</a:t>
            </a:r>
            <a:r>
              <a:rPr b="1" lang="en-US" sz="17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+ Pressure</a:t>
            </a:r>
            <a:r>
              <a:rPr b="1" lang="en-US" sz="1500" spc="-1" strike="noStrike">
                <a:solidFill>
                  <a:srgbClr val="ffffff"/>
                </a:solidFill>
                <a:latin typeface="Candara"/>
              </a:rPr>
              <a:t>n</a:t>
            </a: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portion of the total pressure contributed by a single gas is called i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partial pressure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81920" indent="-39096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Partial pressure of a gas depends on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2" marL="1108440" indent="-32616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Number of moles of ga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2" marL="1108440" indent="-32616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Size of the container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2" marL="1108440" indent="-32616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emperatur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FG05_14.jpg"/>
          <p:cNvPicPr/>
          <p:nvPr/>
        </p:nvPicPr>
        <p:blipFill>
          <a:blip r:embed="rId2"/>
          <a:stretch/>
        </p:blipFill>
        <p:spPr>
          <a:xfrm>
            <a:off x="228600" y="228600"/>
            <a:ext cx="8674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Forc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Pupcat"/>
              </a:rPr>
              <a:t>holds all matter together. The force in a molecule that is between atoms is a chemical or intramolecular force. The force between molecules is called a physical or intermolecular force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352680" y="3581280"/>
            <a:ext cx="2644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Intramolecular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Pupcat"/>
              </a:rPr>
              <a:t>Are stronger than intermolecular forces. The three main types of intramolecular forces are metallic bonding, ionic bonding, and covalent bonding</a:t>
            </a: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. The physical properties of ionic substances and metals are only dependent on strong intramolecular forces.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619280" cy="13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1619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Intermolecular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There are three types of forces that can work between covalent molecu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dispersion forces: the weakest intermolecular force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dipole-dipole interactions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hydrogen bonds :strongest intermolecular force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124080" y="4419720"/>
            <a:ext cx="327672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Dispersion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Are weak forces that result from temporary shifts in density of elections in electron cloud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Sometimes called London force-named after man who found them, American German physicist Fritz London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Causes attraction between identical nonpolar molecu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9718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Dipole-dipole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are attractive forces between the positive end of one polar molecule and the negative end of another polar molecule. Dipole-dipole forces have strengths that range from 5 kJ to 20 kJ per mole. They are much weaker than ionic or covalent bonds and have a significant effect only when the molecules involved are close together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127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Kinetic Molecular Theory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Basic Assump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article Mo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s particles are in constant random motion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llisions between particles are elastic (Energy can be transferred from one particle to another during a collision, but no energy is lost when particles collide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upcat"/>
              </a:rPr>
              <a:t>Figure: two arrangements of polar iodine monochloride (ICl) molecules that give rise to dipole-dipole attractions.</a:t>
            </a:r>
            <a:br>
              <a:rPr sz="3700"/>
            </a:b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iclicl" descr="Dipole-dipole attractions in ICl"/>
          <p:cNvPicPr/>
          <p:nvPr/>
        </p:nvPicPr>
        <p:blipFill>
          <a:blip r:embed="rId2"/>
          <a:stretch/>
        </p:blipFill>
        <p:spPr>
          <a:xfrm>
            <a:off x="762120" y="2819520"/>
            <a:ext cx="75438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Hydrogen Bon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special type of dipole-dipole attraction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Definition: a dipole-dipole attraction that occurs between molecules containing a hydrogen atom bonded to a small, highly electronegative atom with at least one lone electron pair. 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only form to fluorine, oxygen, or nitrogen atom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REASON: they are electronegative enough to cause a large partial positive charge on the hydrogen atom, but small enough that the lone pairs of electrons can come close to hydrogen atoms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705720" y="228600"/>
            <a:ext cx="17748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1774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Hydrogen Bonds in a water molecule</a:t>
            </a:r>
            <a:r>
              <a:rPr b="1" lang="en-US" sz="5600" spc="-1" strike="noStrike">
                <a:solidFill>
                  <a:srgbClr val="000000"/>
                </a:solidFill>
                <a:latin typeface="Pupcat"/>
              </a:rPr>
              <a:t>: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Water has two hydrogen atoms and one oxygen atom. Two molecules of water can form a hydrogen bond between them. The oxygen of one water molecule has two lone pairs of electrons, each of which can form a hydrogen bond with hydrogen on two other water molecu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429000" y="4724280"/>
            <a:ext cx="1905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de61e"/>
                </a:solidFill>
                <a:latin typeface="Modern No. 20"/>
              </a:rPr>
              <a:t>Density &amp; Compression</a:t>
            </a:r>
            <a:endParaRPr b="1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3924000"/>
            <a:ext cx="7581960" cy="19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Density- Density is a measurement of the mass per unit volume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Compression- This unit of measure expresses the degree of firmness or softness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Liquids can be compressed but the change in volume for liquids is much smaller because liquid particles are already tightly packe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Liquids are much denser than gase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0" name="Text Placeholder 2" descr=""/>
          <p:cNvPicPr/>
          <p:nvPr/>
        </p:nvPicPr>
        <p:blipFill>
          <a:blip r:embed="rId6"/>
          <a:stretch/>
        </p:blipFill>
        <p:spPr>
          <a:xfrm>
            <a:off x="838080" y="1447920"/>
            <a:ext cx="325296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Text Placeholder 2" descr=""/>
          <p:cNvPicPr/>
          <p:nvPr/>
        </p:nvPicPr>
        <p:blipFill>
          <a:blip r:embed="rId7"/>
          <a:stretch/>
        </p:blipFill>
        <p:spPr>
          <a:xfrm>
            <a:off x="5715000" y="1371600"/>
            <a:ext cx="2097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9de61e"/>
                </a:solidFill>
                <a:latin typeface="Modern No. 20"/>
              </a:rPr>
              <a:t>Fluidity</a:t>
            </a:r>
            <a:endParaRPr b="1" lang="en-US" sz="7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0400" y="1882800"/>
            <a:ext cx="3720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Fluidity- The ability to flow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A liquid can diffuse through another liquid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Liquids diffuse more slowly than gases even at the same temp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Liquids are less fluid than gas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4" name="Text Placeholder 2" descr=""/>
          <p:cNvPicPr/>
          <p:nvPr/>
        </p:nvPicPr>
        <p:blipFill>
          <a:blip r:embed="rId6"/>
          <a:stretch/>
        </p:blipFill>
        <p:spPr>
          <a:xfrm>
            <a:off x="1238400" y="1882800"/>
            <a:ext cx="2801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9de61e"/>
                </a:solidFill>
                <a:latin typeface="Modern No. 20"/>
              </a:rPr>
              <a:t>Viscosity</a:t>
            </a:r>
            <a:endParaRPr b="1" lang="en-US" sz="7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667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Viscosity- The measure of the resistance of a liquid to flow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Viscosity of a liquid is determined by the type of intermolecular forces, the shape of the particles, and temperature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The stronger the forces, the higher the viscosity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Viscosity decreases with temperature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The added energy from a higher temperature makes it easier for the molecules to overcome the intermolecular forces that keep the molecules from flowing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Higher  viscosity with higher molecular mass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7" name="Text Placeholder 2" descr=""/>
          <p:cNvPicPr/>
          <p:nvPr/>
        </p:nvPicPr>
        <p:blipFill>
          <a:blip r:embed="rId8"/>
          <a:stretch/>
        </p:blipFill>
        <p:spPr>
          <a:xfrm>
            <a:off x="779400" y="2446200"/>
            <a:ext cx="35798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108000"/>
            <a:ext cx="758196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9de61e"/>
                </a:solidFill>
                <a:latin typeface="Modern No. 20"/>
              </a:rPr>
              <a:t>Surface </a:t>
            </a:r>
            <a:r>
              <a:rPr b="1" lang="en-US" sz="3600" spc="-1" strike="noStrike">
                <a:solidFill>
                  <a:srgbClr val="9de61e"/>
                </a:solidFill>
                <a:latin typeface="Modern No. 20"/>
              </a:rPr>
              <a:t>Tension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3546360"/>
            <a:ext cx="758196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Surface Tension- The measure of the inward pull by particles in the interior if the liquid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For the surface area to increase particles from the interior must move to the surface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The stronger the attractions between particles, the greater the surface tension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Surfactants- Compounds that lower the surface tension of water, also referred to as surface agents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Water has a high surface tension because its molecules can form multiple hydrogen bonds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60" name="Text Placeholder 2" descr=""/>
          <p:cNvPicPr/>
          <p:nvPr/>
        </p:nvPicPr>
        <p:blipFill>
          <a:blip r:embed="rId7"/>
          <a:stretch/>
        </p:blipFill>
        <p:spPr>
          <a:xfrm>
            <a:off x="685800" y="1219320"/>
            <a:ext cx="359100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Text Placeholder 2" descr=""/>
          <p:cNvPicPr/>
          <p:nvPr/>
        </p:nvPicPr>
        <p:blipFill>
          <a:blip r:embed="rId8"/>
          <a:stretch/>
        </p:blipFill>
        <p:spPr>
          <a:xfrm>
            <a:off x="5334120" y="1219320"/>
            <a:ext cx="29019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9de61e"/>
                </a:solidFill>
                <a:latin typeface="Modern No. 20"/>
              </a:rPr>
              <a:t>Capillary Action</a:t>
            </a:r>
            <a:endParaRPr b="1" lang="en-US" sz="7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305920" cy="29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Capillary Action- The movement of a liquid along the surface of a solid caused by the attraction of molecules of the liquid to the molecules of the solid </a:t>
            </a:r>
            <a:r>
              <a:rPr b="1" lang="en-US" sz="1600" spc="-1" strike="noStrike">
                <a:solidFill>
                  <a:srgbClr val="ffffff"/>
                </a:solidFill>
                <a:latin typeface="Cambria"/>
              </a:rPr>
              <a:t>(adhesion)</a:t>
            </a: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Molecules of water are naturally attracted to each other and form temporary hydrogen bonds with each other </a:t>
            </a:r>
            <a:r>
              <a:rPr b="1" lang="en-US" sz="1600" spc="-1" strike="noStrike">
                <a:solidFill>
                  <a:srgbClr val="ffffff"/>
                </a:solidFill>
                <a:latin typeface="Cambria"/>
              </a:rPr>
              <a:t>(cohesion);</a:t>
            </a: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 their attraction for each other on the surface of a liquid, for example, gives rise to </a:t>
            </a:r>
            <a:r>
              <a:rPr b="1" i="1" lang="en-US" sz="1600" spc="-1" strike="noStrike">
                <a:solidFill>
                  <a:srgbClr val="9de61e"/>
                </a:solidFill>
                <a:latin typeface="Cambria"/>
              </a:rPr>
              <a:t>surface tension</a:t>
            </a: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Results in the elevation or depression of liquids in capillaries </a:t>
            </a:r>
            <a:br>
              <a:rPr sz="1600"/>
            </a:b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(small narrow tubes)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64" name="Text Placeholder 2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3840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ensity of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ndara"/>
              </a:rPr>
              <a:t>There is about a 10% difference in density between the solid and liquid states of most substances</a:t>
            </a:r>
            <a:endParaRPr b="1" lang="en-US" sz="21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ndara"/>
              </a:rPr>
              <a:t>In general, the particles in solids are more closely packed than those in liquids</a:t>
            </a:r>
            <a:endParaRPr b="1" lang="en-US" sz="21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Most solids are more dense than most liquid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Except water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the water molecules in ice are less closely packed together than in liquid water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Candara"/>
              </a:rPr>
              <a:t>Crystalline Solids</a:t>
            </a:r>
            <a:endParaRPr b="1" lang="en-US" sz="6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90476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ndara"/>
              </a:rPr>
              <a:t>Crystals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-- The individual pieces of a crystalline soli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ndara"/>
              </a:rPr>
              <a:t>Unit Cell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-- the smallest arrangement of connected points that can be repeated in 3 dimensions to form the lattic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 shape of a crystalline solid is determined by the type of unit cell from which its lattice is built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69" name="Picture 2" descr="http://franklin-sterlinghill.com/franklinminerals/images/rhodonite_2a.jpg"/>
          <p:cNvPicPr/>
          <p:nvPr/>
        </p:nvPicPr>
        <p:blipFill>
          <a:blip r:embed="rId7"/>
          <a:stretch/>
        </p:blipFill>
        <p:spPr>
          <a:xfrm>
            <a:off x="4724280" y="2585880"/>
            <a:ext cx="4038840" cy="2554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457200" y="1144440"/>
            <a:ext cx="8229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A solid whose atoms, ions, or molecules are arranged in an orderly, geometric, three-dimensional structu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80880" y="5334120"/>
            <a:ext cx="8763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rystal shapes differ because the surfaces of unit cells do not always meet at right angles and the edges of the faces vary in lengt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Basic Assumption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asic Assumpti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 Energ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e mass and velocity of a particle determine the kinetic energy of a particl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emperature is a measure of the average kinetic energy of particles in a sample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Text Placeholder 2"/>
              <p:cNvSpPr txBox="1"/>
              <p:nvPr/>
            </p:nvSpPr>
            <p:spPr>
              <a:xfrm>
                <a:off x="3376440" y="3543480"/>
                <a:ext cx="22464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www.btinternet.com/~chemistry.diagrams/SIO2-3UN.GIF"/>
          <p:cNvPicPr/>
          <p:nvPr/>
        </p:nvPicPr>
        <p:blipFill>
          <a:blip r:embed="rId2"/>
          <a:stretch/>
        </p:blipFill>
        <p:spPr>
          <a:xfrm>
            <a:off x="4800600" y="2352600"/>
            <a:ext cx="4038480" cy="3438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olecular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2362320"/>
            <a:ext cx="4876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ost are not solid at room temperatur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Molecular compounds are solids at room temperature because of their large molar mas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ecause they have no ions, molecular solids are poor conductors of heat and electricit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Fairly soft and have low to moderately high melting point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04920" y="1600200"/>
            <a:ext cx="7696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The molecules are held together by dispersion forces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dipole - dipole forces or hydrogen bond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1981080" y="11430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table su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valent Network of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79040" y="1882800"/>
            <a:ext cx="372132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Atoms that can form multiple covalent bonds are able to form covalent network solid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Very high melting point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Usually have poor conductivity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79" name="Picture 2" descr="http://sz0138.wc.mail.comcast.net/service/home/~/b26c.jpg?auth=co&amp;loc=en_US&amp;id=20820&amp;part=1"/>
          <p:cNvPicPr/>
          <p:nvPr/>
        </p:nvPicPr>
        <p:blipFill>
          <a:blip r:embed="rId6"/>
          <a:stretch/>
        </p:blipFill>
        <p:spPr>
          <a:xfrm>
            <a:off x="4572000" y="1987560"/>
            <a:ext cx="4160880" cy="32702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590920" y="1143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quartz and diam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Ionic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ach ion is surrounded by ions of opposite charg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 type of ions and the ratio of ions determine the structure of the lattice and the shape of the crystal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re is a network of attractions that extends throughout an ionic crystal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ndara"/>
              </a:rPr>
              <a:t>This gives these compounds their high melting points and hardness</a:t>
            </a:r>
            <a:endParaRPr b="1" lang="en-US" sz="21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onic crystals are strong but brittl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3" name="Picture 2" descr="http://www.chemguide.co.uk/atoms/structures/naclexpl.GIF"/>
          <p:cNvPicPr/>
          <p:nvPr/>
        </p:nvPicPr>
        <p:blipFill>
          <a:blip r:embed="rId8"/>
          <a:srcRect l="0" t="0" r="25055" b="0"/>
          <a:stretch/>
        </p:blipFill>
        <p:spPr>
          <a:xfrm>
            <a:off x="4921200" y="2481120"/>
            <a:ext cx="3019320" cy="2347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2590920" y="1143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table sa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etallic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sists of positive metal ions surrounded mobile electr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Strength varies by the physical propert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obile electrons make metals malleable and ductile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ey also make metals good conductors of electricity and heat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When force is applied to a metal, electrons shift and keep the metal ions bonded in their new positi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ll metallic elements can form a metallic soli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7" name="Picture 2" descr="http://www.51sat.net/Article/UploadFiles/200710/20071008092719672.gif"/>
          <p:cNvPicPr/>
          <p:nvPr/>
        </p:nvPicPr>
        <p:blipFill>
          <a:blip r:embed="rId9"/>
          <a:stretch/>
        </p:blipFill>
        <p:spPr>
          <a:xfrm>
            <a:off x="5559480" y="1444680"/>
            <a:ext cx="2298600" cy="229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www.51sat.net/Article/UploadFiles/200710/20071008092719672.gif"/>
          <p:cNvPicPr/>
          <p:nvPr/>
        </p:nvPicPr>
        <p:blipFill>
          <a:blip r:embed="rId10"/>
          <a:stretch/>
        </p:blipFill>
        <p:spPr>
          <a:xfrm>
            <a:off x="5022720" y="3687840"/>
            <a:ext cx="304164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Amorphous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286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Has no shap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ny liquid can be made into an amorphous solid if given a sufficiently high cooling rate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Cooling reduces molecular mobilit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n amorphous solid often forms when a molten material cools too quickly to allow enough crystals to form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ot all particles are arranged in specific order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762120" y="11430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A solid in which there is no long range order of the positions of the ato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179280" indent="-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glass and rub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http://www.physorg.com/newman/gfx/news/hires/materialssci.jpg"/>
          <p:cNvPicPr/>
          <p:nvPr/>
        </p:nvPicPr>
        <p:blipFill>
          <a:blip r:embed="rId7"/>
          <a:stretch/>
        </p:blipFill>
        <p:spPr>
          <a:xfrm>
            <a:off x="4640400" y="2676600"/>
            <a:ext cx="37209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Endothermic Process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dothermic- A chemical reaction in which a greater amount of energy is required to break the existing bonds in the reactants than is released when the new bonds form in the product molecul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4"/>
              </a:rPr>
              <a:t>http://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5"/>
              </a:rPr>
              <a:t>www.youtube.com/watch?v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6"/>
              </a:rPr>
              <a:t>=GmiZ0huvZz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elting</a:t>
            </a: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amount of energy required to melt one mole of a solid depends on the strength of the forces keeping the particles together in the sol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melting point of a crystalline solid is the temperature at which the forces holding its crystal lattice together are broken and it becomes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Vaporization vs. Evapor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7213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Vaporization is the process by which a liquid changes to a gas or a vapor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Evaporation is when vaporization occurs only at the surface of a liquid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0400" y="1882800"/>
            <a:ext cx="3720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17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Boil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temperature at which the vapor pressure of a liquid equals the external or atmospheric pressure is called the boiling poin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rocess of Boil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7213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Molecules throughout the liquid have energy to vaporiz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Bubbles of vapor collect below the surface of the liquid and rise to the surfac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0400" y="1882800"/>
            <a:ext cx="3720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419720" y="152388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Kinetic Molecular Theory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9400" y="1882800"/>
            <a:ext cx="708984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Mass/Velocity Relationship Question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Condition #1: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wo particles (one heavy and one light) traveling at the same velocity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c28"/>
                </a:solidFill>
                <a:latin typeface="Candara"/>
              </a:rPr>
              <a:t>Which exhibits the greatest kinetic energy?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Condition #2: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wo particles of the same size traveling at different velocities (fast and slow)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c28"/>
                </a:solidFill>
                <a:latin typeface="Candara"/>
              </a:rPr>
              <a:t>Which exhibits the greatest kinetic energy?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Text Placeholder 2"/>
              <p:cNvSpPr txBox="1"/>
              <p:nvPr/>
            </p:nvSpPr>
            <p:spPr>
              <a:xfrm>
                <a:off x="6781680" y="1219320"/>
                <a:ext cx="19814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ublim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ublimation is the process by which a solid changes directly to a gas without first becoming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Exothermic Chang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othermic- A chemical reaction in which more energy is released than is required to break bonds in the initial reac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4"/>
              </a:rPr>
              <a:t>http://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5"/>
              </a:rPr>
              <a:t>www.youtube.com/watch?v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6"/>
              </a:rPr>
              <a:t>=80Q3GgeelVM&amp;feature=relate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dens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9400" y="1882800"/>
            <a:ext cx="371808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 energy-releasing process by which a gas or vapor becomes a liqui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densation is the reverse of vaporiza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Different causes of the condensation of water vapor in which all involve a transfer of energ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13" name="Text Placeholder 2" descr=""/>
          <p:cNvPicPr/>
          <p:nvPr/>
        </p:nvPicPr>
        <p:blipFill>
          <a:blip r:embed="rId5"/>
          <a:stretch/>
        </p:blipFill>
        <p:spPr>
          <a:xfrm>
            <a:off x="5445000" y="1882800"/>
            <a:ext cx="2843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dens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vapor molecules can come in contact with a cold surface such as the outside of a glass containing ice water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Heat from the vapor molecules is transferred to the glass as the water vapor condens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water vapor that condenses on blades of grass or the car forms liquid droplets called dew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densation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When a layer of air near the ground cools, water vapor in the air condenses and forms fo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ouds form when layers of air high above the surface of Earth cool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eposi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energy-releasing process by which a substance changes from a gas or vapor to a solid without first becoming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eposition is the reverse of sublim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When water vapor comes in contact with a cold window in winter, it forms a solid deposit on the window called fros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Freez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reezing is the reverse of meltin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freezing point is the temperature at which a liquid is converted into a crystalline sol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hase Diagrams</a:t>
            </a: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wo variables control the phase of a substance: temperature and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hase Diagram- a graph of pressure versus temperature that shows which phase substance exists under different conditions of temperature and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hase Diagram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riple Point- the point on a phase diagram representing the temperature and pressure at which three phases of a substance (solid, liquid, and gas) can coexis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ritical Point- indicates the critical pressure and critical temperature above which water can not exist as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Additional Example of a Phase Diagram</a:t>
            </a:r>
            <a:endParaRPr b="1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27" name="Picture 4" descr="350px-Phase-diag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62280" y="1882800"/>
            <a:ext cx="5483160" cy="3948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Explaining the Behavior of Gas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Properti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Low Density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pinpoint mass/volume of empty space)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Random Mo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Behavior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mpress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Gases can be </a:t>
            </a:r>
            <a:r>
              <a:rPr b="1" lang="en-US" sz="2200" spc="-1" strike="noStrike">
                <a:solidFill>
                  <a:srgbClr val="000066"/>
                </a:solidFill>
                <a:latin typeface="Candara"/>
              </a:rPr>
              <a:t>compressed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due to the large space that exists between particle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Gases </a:t>
            </a:r>
            <a:r>
              <a:rPr b="1" lang="en-US" sz="2200" spc="-1" strike="noStrike">
                <a:solidFill>
                  <a:srgbClr val="000066"/>
                </a:solidFill>
                <a:latin typeface="Candara"/>
              </a:rPr>
              <a:t>expand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to fill their containers due to constant random motion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Explaining the Behavior of Gas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121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Properti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No attractive or repulsive forces acting on particl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s exhibit constant random motion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Behavior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s can flow easily past each other in a process called </a:t>
            </a: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diffusion.  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e rate of diffusion is dependent on the mass of the partic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Text Placeholder 2"/>
              <p:cNvSpPr txBox="1"/>
              <p:nvPr/>
            </p:nvSpPr>
            <p:spPr>
              <a:xfrm>
                <a:off x="533520" y="5562720"/>
                <a:ext cx="32004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t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t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armas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armas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114800" y="56386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Based on this equation which particles diffuse faster, heavy or light partic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Explaining the Behavior of Gas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Propert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s exhibit constant random motion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Behavior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Effusion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similar to diffusion, where particles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scape through a tiny opening)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raham’s Law of Effus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Rate of effusion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Text Placeholder 2"/>
              <p:cNvSpPr txBox="1"/>
              <p:nvPr/>
            </p:nvSpPr>
            <p:spPr>
              <a:xfrm>
                <a:off x="3581280" y="5334120"/>
                <a:ext cx="19656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armas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Gas Pressur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n important 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3"/>
              </a:rPr>
              <a:t>property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 of any gas is its pressure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 linear momentum of the gas molecul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essure is defined as force per unit area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s particles exert pressure when they collide with the walls of their container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less mass, the less pressure it exer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076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Gas Pressure (Continued)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7000" indent="-3870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emperature, volume and number of moles affect the pressure that a gas exer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87000" indent="-3870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Earth is surrounded by an atmosphere that extends into space for hundreds of kilometers.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87000" indent="-3870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particles in air move in every direction which exerts pressure in all of these directions; this is known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atmospheric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87000" indent="-3870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ir Pressure varies at different points on earth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20:12:16Z</dcterms:created>
  <dc:creator>udsd</dc:creator>
  <dc:description/>
  <dc:language>en-US</dc:language>
  <cp:lastModifiedBy>udsd</cp:lastModifiedBy>
  <dcterms:modified xsi:type="dcterms:W3CDTF">2010-05-25T14:20:29Z</dcterms:modified>
  <cp:revision>9</cp:revision>
  <dc:subject/>
  <dc:title>Chapter 13.1 Gases By,  Erica Weisman, Alex Myers, Haley Binder, Ryan LeFevre, Bench Hanson</dc:title>
</cp:coreProperties>
</file>